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019925" cy="99647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E726-BC72-4927-9BBA-1D09B035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ACDF-6779-448B-BDDC-523F931D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05E7-AAA5-4102-9A6C-7593B5EC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A5FF-6954-4263-8BF5-B8594D01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3B3B-5EFA-4916-AAF8-3B03DCA5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73FC-BA6D-47D0-8088-5FB38044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C258-94D9-44D5-A612-04294F4E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3AC3-B9BA-4FDD-9B72-5520E887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8F1E-F6FC-427C-9AD8-38DA6B0C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0EF2-FD7F-4392-B0F5-2ACC512A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91F7-1D7F-491D-AB8B-83DA46CB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9E58-3CEA-4E50-A9E7-30FF82BA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CF70-F51D-4F12-8306-1BFE90ECD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16280" y="84240"/>
            <a:ext cx="3960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da251d"/>
                </a:solidFill>
                <a:latin typeface="Arial Unicode MS"/>
                <a:ea typeface="Arial Unicode MS"/>
              </a:rPr>
              <a:t>TITLE </a:t>
            </a:r>
            <a:r>
              <a:rPr b="1" lang="en-GB" sz="2400" spc="-1" strike="noStrike">
                <a:solidFill>
                  <a:srgbClr val="da251d"/>
                </a:solidFill>
                <a:latin typeface="Arial Unicode MS"/>
                <a:ea typeface="Arial Unicode MS"/>
              </a:rPr>
              <a:t>HERE - TITLE HERE TITL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Your Name  your@email http://yourhomep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Your affiliation Your affiliation Your affiliation Your affiliat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5920" y="201600"/>
            <a:ext cx="874800" cy="93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35640" y="9489960"/>
            <a:ext cx="23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Copyright (c)  2007  </a:t>
            </a:r>
            <a:r>
              <a:rPr b="1" lang="en-US" sz="400" spc="-1" strike="noStrike">
                <a:solidFill>
                  <a:srgbClr val="ff0000"/>
                </a:solidFill>
                <a:latin typeface="Times New Roman"/>
              </a:rPr>
              <a:t>Please Write Your Name Her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This work is licensed under the Creative Commons Attribution-NonCommercial-ShareAlike License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To view a copy of this license, visit http://creativecommons.org/licenses/by-nc-sa/2.5/ or send a letter to Creative Commons, 559 Nathan Abbott Way, Stanford, California 94305, USA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341960" y="9532800"/>
            <a:ext cx="252360" cy="25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92280" y="1403280"/>
            <a:ext cx="5545080" cy="79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o of your instit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upper left cor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oto of your 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right of your institution logo. This will help people to identify you and ask questions about your po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r name in 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in the lower right corner. This will guarantee your rights if the poster will be publis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owerpoint poster is in A4 format, you should print it on paper using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x100 cm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oster should contain the description of your research work: start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research question to 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f 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u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ctures and graph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only the necessary text (less is more :-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967360" y="147600"/>
            <a:ext cx="738360" cy="939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52640" y="163440"/>
            <a:ext cx="790560" cy="9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YOUR PHOTO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6T22:30:57Z</dcterms:created>
  <dc:creator>your name</dc:creator>
  <dc:description/>
  <dc:language>en-US</dc:language>
  <cp:lastModifiedBy>Roberto Bresin</cp:lastModifiedBy>
  <dcterms:modified xsi:type="dcterms:W3CDTF">2007-06-17T21:32:21Z</dcterms:modified>
  <cp:revision>231</cp:revision>
  <dc:subject/>
  <dc:title>ConGAS STSM Poster Format for the Reykjavik Final Event 2007</dc:title>
</cp:coreProperties>
</file>